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B50-39E7-459F-9B8F-EFB5BB39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CA94-21C2-482C-A487-13B27088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98A7-EBDA-4F6E-B6B7-3FFF690E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1418-3B1E-47E7-A675-DEFA9EA9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57C0-41F3-4469-A289-A8FCF9B5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6706-13F1-495D-84DE-0B17E6CF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51D9-5158-4865-AD8D-438F09E6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ACA8-E3CF-40C6-951C-FC065C57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B3C3-E9C6-47AD-ACF7-CCC59EA5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6781680" cy="118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7B1D-9726-42D0-94BD-0CF3DB5F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A7D9-0B26-47DF-B76A-F3E3E459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3825-AEDB-4DDD-9471-B800D0BD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56A7-D574-43C3-99AD-08955CC0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8BA3-5A36-459B-A18E-E8524FAD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FA54-CA1B-4D7E-92AC-410EA332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8848-F223-4EF7-8F95-BE112AF3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349E-3248-4BEE-8BB3-014B39D7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E1C9-8727-44E5-A3AA-CEF5CD52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DE6F-2ABD-4916-8C2A-E4FBE555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DE4-8E90-4E86-A87D-93F74CA7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6781680" cy="118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D489-DCED-4788-96CA-1F368723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EDA0-1D18-40F0-989C-ABE4329B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0C11-D302-4C42-AB93-9481716C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23C-AF5E-40D1-B0FB-9CD7284D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6699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399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444E-DA5D-4974-B6EB-D7B022954B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6699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EC13-0410-4750-9DA2-2B4263C39E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43000" y="1066680"/>
            <a:ext cx="67816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ALLI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NTH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16:36:59Z</dcterms:created>
  <dc:creator>RLASD ED CENTER</dc:creator>
  <dc:description/>
  <dc:language>en-US</dc:language>
  <cp:lastModifiedBy>RLASD ED CENTER</cp:lastModifiedBy>
  <dcterms:modified xsi:type="dcterms:W3CDTF">2012-04-27T16:48:51Z</dcterms:modified>
  <cp:revision>1</cp:revision>
  <dc:subject/>
  <dc:title>PowerPoint Presentation</dc:title>
</cp:coreProperties>
</file>